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92A-6A09-4E1C-A6AC-DCDC077E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021-6ACF-4E8B-B4FC-180D7D22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66A-F51D-4B3B-BEBE-370C08BD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BAF1-2806-48A8-A11F-C4F94BC5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D8E9-C704-4419-A4EE-500B0FAF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CA3B-32FC-479E-AE6F-16CB3564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7028-1139-480C-95CF-F3D26FF6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4A6F-79F8-4C2A-8E1D-42BE8FAF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CB13-8878-4E93-B7E6-89FB0BC3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D2F1-85F7-4B85-8B1F-8F137B82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DB85-985A-411E-A61D-AD5EE780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4C5-6600-48CB-8B3B-874B0C27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5124-1644-4864-837E-CB71EB30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A8F4-D2F0-431F-A3F6-57ADFE8D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6517-DD21-4FAD-9526-5CD4DB29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497A-24FF-4380-9463-065604AD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DF38-5B04-4152-8ADB-880689E6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06440-2BC3-4D8F-A1F7-9C1FD928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E7DC4-11E7-4555-8E30-B099F609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B8141-3E4F-49FC-B594-2164A1DF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25B17-7038-4C27-9FBB-7886797A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9431C-443F-407D-87FA-A92A513C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1D0-02B8-42E3-8797-59DD4D41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CD21C-DBE4-421C-8B49-0E78B9A7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5273F-5477-4B62-90CD-1218E92C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9D31F-B488-4B3B-ADBB-23023EA4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486F1-915D-421A-81B5-3A816F68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D891-D254-4B96-B4A6-0F527381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B0E3F-C376-4DF3-8F5E-4A6FBC4F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B3D83-C0C9-4E8F-A3C8-2FF39510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75F82-BC15-48E3-9FD3-2597E4EF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FDC75-BD76-43F3-901A-59A7B571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D0AB0-083B-4F66-8607-49D03DA1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0C88-2BD7-475F-ABC7-3A319C88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9EC52-9A6E-40E2-9A06-0CDC9396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13087-6D87-45F5-B126-C092D95F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37B97-F64E-420B-8EAA-EC330806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1E31B-FF58-414E-BF80-7D2AFCB9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0CB2C-4E28-4DFB-A9AA-6F7CFB98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844B1-863E-4FDE-9AF9-30B331B9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C6AB4-B901-4043-8878-82D9E01D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4576C-5A0E-4CBF-AC8E-8B3A6EFD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712E8-EFF0-433B-9CA1-3C1B5611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9B8-D544-449A-BF3C-90B54EDF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827-4076-4F56-9501-7C07F386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510B-443B-4FFF-AF18-7E4E31A5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166-E4D5-4892-883D-453B932D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0E5-0FC1-4063-AD40-FA273B53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6192-28D1-4D1F-86E3-7B1B7A22354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25FA-D151-4104-82E0-B316C05E71F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9935-E802-4AC1-84D4-9AFD2AD755A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68B6-7A3E-40A3-B11D-A0422F82BA2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-1116000" y="-531720"/>
            <a:ext cx="11447280" cy="84312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9"/>
          <p:cNvSpPr/>
          <p:nvPr/>
        </p:nvSpPr>
        <p:spPr>
          <a:xfrm>
            <a:off x="500040" y="100008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Координа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2224440" y="2571840"/>
            <a:ext cx="438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на плоскос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Основополагающий вопрос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6715080" y="250020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бы на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5072040" y="471492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заблуди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500040" y="550080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лаборатории жизн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6"/>
          <p:cNvSpPr/>
          <p:nvPr/>
        </p:nvSpPr>
        <p:spPr>
          <a:xfrm>
            <a:off x="142920" y="1500120"/>
            <a:ext cx="464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Откуда же берут начало координ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Где в практической жизни используется система координ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4400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Проблемные вопрос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286160" y="0"/>
            <a:ext cx="4857840" cy="2971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142920" y="2143080"/>
            <a:ext cx="4143240" cy="40719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6"/>
          <p:cNvSpPr/>
          <p:nvPr/>
        </p:nvSpPr>
        <p:spPr>
          <a:xfrm>
            <a:off x="285840" y="142920"/>
            <a:ext cx="415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Учебные вопрос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4500720" y="3286080"/>
            <a:ext cx="442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1. Какие прямые называются перпендикуляр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2. Что такое оси координа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3. Как обозначаются ос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4. Как находить точку по координат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5. Как построить фигуру по координат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онтрольно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85840" y="1935000"/>
            <a:ext cx="84294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9:14:42Z</dcterms:created>
  <dc:creator>Маша</dc:creator>
  <dc:description/>
  <dc:language>en-US</dc:language>
  <cp:lastModifiedBy>26519</cp:lastModifiedBy>
  <dcterms:modified xsi:type="dcterms:W3CDTF">2010-05-28T04:54:05Z</dcterms:modified>
  <cp:revision>15</cp:revision>
  <dc:subject/>
  <dc:title>Слайд 1</dc:title>
</cp:coreProperties>
</file>